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5024-B52D-4BF2-9043-3E3735F241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77B0-65BF-4540-A75C-62621340E7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0AEF-9CFB-4C0F-B3D6-91006390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4B64-43B0-4DFB-B848-86B1B33F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D562-0804-413F-AF42-F42D9DE27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A8F0-0323-43A5-A9D7-FB6DA139D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5C43-BB94-4376-9F34-72BF055A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2DDB-5382-46A7-BFE6-D1F13C1E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46F1-2B5E-4A9B-A586-773F858B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BCF6-DE77-49D4-A96A-C6A11B5D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451B-AEE7-4A01-8CA6-EDE0F922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77E7-1632-452C-99E6-39D56392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2EA0-6893-4464-BBC8-536FB13B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27F3-A3CD-4C8F-B799-0C57FBDF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892F-0A1C-4944-802C-E7D3D32219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marL="407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a piece of blank paper to create your own “Piece of the Pie” foldable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4400" y="2196720"/>
            <a:ext cx="8259480" cy="91908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28600" y="1066680"/>
          <a:ext cx="8686800" cy="5486400"/>
        </p:xfrm>
        <a:graphic>
          <a:graphicData uri="http://schemas.openxmlformats.org/drawingml/2006/table">
            <a:tbl>
              <a:tblPr/>
              <a:tblGrid>
                <a:gridCol w="4352760"/>
                <a:gridCol w="4334040"/>
              </a:tblGrid>
              <a:tr h="280368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Literary Analysis </a:t>
                      </a:r>
                      <a:r>
                        <a:rPr b="0" lang="en-US" sz="14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(use pg 928 to define social context, dialogue, &amp; dialec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noFill/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Reading Strategy </a:t>
                      </a:r>
                      <a:r>
                        <a:rPr b="0" lang="en-US" sz="14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(use pg 928 to answer this question- </a:t>
                      </a:r>
                      <a:r>
                        <a:rPr b="0" i="1" lang="en-US" sz="14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What should you note when analyzing the effect of the author</a:t>
                      </a:r>
                      <a:r>
                        <a:rPr b="0" lang="en-US" sz="14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’s purpose on meaning?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8272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Zora Neale Hurston </a:t>
                      </a:r>
                      <a:r>
                        <a:rPr b="0" lang="en-US" sz="14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1891-19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(use pg 929 &amp; write Hurston facts from each par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              </a:t>
                      </a: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Predic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(Based on what you’ve learned about Hurston, the title and the pictures make a prediction about this autobiograph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AutoShape 21"/>
          <p:cNvSpPr/>
          <p:nvPr/>
        </p:nvSpPr>
        <p:spPr>
          <a:xfrm>
            <a:off x="3200400" y="2209680"/>
            <a:ext cx="2895480" cy="22860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22"/>
          <p:cNvSpPr/>
          <p:nvPr/>
        </p:nvSpPr>
        <p:spPr>
          <a:xfrm>
            <a:off x="2590920" y="2823120"/>
            <a:ext cx="4038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Bold Condensed"/>
              </a:rPr>
              <a:t>  “</a:t>
            </a:r>
            <a:r>
              <a:rPr b="0" lang="en-US" sz="2200" spc="-1" strike="noStrike">
                <a:solidFill>
                  <a:srgbClr val="000000"/>
                </a:solidFill>
                <a:latin typeface="Helvetica Neue Bold Condensed"/>
              </a:rPr>
              <a:t>Dust Track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Bold Condensed"/>
              </a:rPr>
              <a:t>on a Road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7:30:35Z</dcterms:created>
  <dc:creator>nvasquez</dc:creator>
  <dc:description/>
  <dc:language>en-US</dc:language>
  <cp:lastModifiedBy>nvasquez</cp:lastModifiedBy>
  <dcterms:modified xsi:type="dcterms:W3CDTF">2010-11-07T17:38:40Z</dcterms:modified>
  <cp:revision>2</cp:revision>
  <dc:subject/>
  <dc:title>Use a piece of blank paper to create your own “Piece of the Pie” foldable.</dc:title>
</cp:coreProperties>
</file>